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8.wmf" ContentType="image/x-wmf"/>
  <Override PartName="/ppt/media/image9.jpeg" ContentType="image/jpeg"/>
  <Override PartName="/ppt/media/image11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4BBF-FCEB-40FB-AD97-DD153BC1007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C3E9-72C2-4B9A-95A1-0058A6BA5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05E2-2936-4030-9098-E0D4C370B9F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B347-593C-4CC6-94D2-83606190871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EDF0-0EA5-44FF-8EBA-344AEB7B359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E3AA-4EA2-468B-979B-66F519DDDE5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8C03-4386-4CCF-8744-887248765A3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D2A7-27C7-4D19-B46E-4E3AACE2488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9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737f39"/>
                </a:gs>
                <a:gs pos="100000">
                  <a:srgbClr val="483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17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sp>
            <p:nvSpPr>
              <p:cNvPr id="3" name="Rectangle 13"/>
              <p:cNvSpPr/>
              <p:nvPr/>
            </p:nvSpPr>
            <p:spPr>
              <a:xfrm>
                <a:off x="0" y="0"/>
                <a:ext cx="1371600" cy="6858000"/>
              </a:xfrm>
              <a:prstGeom prst="rect">
                <a:avLst/>
              </a:prstGeom>
              <a:gradFill rotWithShape="0">
                <a:gsLst>
                  <a:gs pos="0">
                    <a:srgbClr val="e3c16b"/>
                  </a:gs>
                  <a:gs pos="100000">
                    <a:srgbClr val="48301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" name="Pictur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37160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Line 15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" name="Rectangle 10"/>
          <p:cNvSpPr/>
          <p:nvPr/>
        </p:nvSpPr>
        <p:spPr>
          <a:xfrm>
            <a:off x="1371600" y="1447920"/>
            <a:ext cx="762012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Rectangle 1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525a28"/>
                </a:gs>
                <a:gs pos="100000">
                  <a:srgbClr val="483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Group 18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grpSp>
            <p:nvGrpSpPr>
              <p:cNvPr id="48" name="Group 17"/>
              <p:cNvGrpSpPr/>
              <p:nvPr/>
            </p:nvGrpSpPr>
            <p:grpSpPr>
              <a:xfrm>
                <a:off x="0" y="0"/>
                <a:ext cx="1371600" cy="6858000"/>
                <a:chOff x="0" y="0"/>
                <a:chExt cx="1371600" cy="6858000"/>
              </a:xfrm>
            </p:grpSpPr>
            <p:sp>
              <p:nvSpPr>
                <p:cNvPr id="49" name="Rectangle 15"/>
                <p:cNvSpPr/>
                <p:nvPr/>
              </p:nvSpPr>
              <p:spPr>
                <a:xfrm>
                  <a:off x="0" y="0"/>
                  <a:ext cx="1371600" cy="685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e3c16b"/>
                    </a:gs>
                    <a:gs pos="100000">
                      <a:srgbClr val="483018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0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371600" cy="1447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1" name="Line 10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920" y="685440"/>
            <a:ext cx="723888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e3c16b"/>
                </a:solidFill>
                <a:latin typeface="Times New Roman"/>
              </a:rPr>
              <a:t>Unité 3 </a:t>
            </a:r>
            <a:endParaRPr b="0" lang="en-US" sz="48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866960" y="21556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Unité 3 – Home Sweet Home 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2895480" y="3809880"/>
            <a:ext cx="40705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2 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55600" y="129528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Il y a une lampe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525a28"/>
                </a:solidFill>
                <a:latin typeface="Times New Roman"/>
              </a:rPr>
              <a:t>(nouveau) 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04920" y="4052880"/>
            <a:ext cx="85341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il y a une nouvelle lamp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2" descr="C:\Documents and Settings\Michael\Local Settings\Temporary Internet Files\Content.IE5\M6N0CPZS\MC900384152[1].wmf"/>
          <p:cNvPicPr/>
          <p:nvPr/>
        </p:nvPicPr>
        <p:blipFill>
          <a:blip r:embed="rId1"/>
          <a:stretch/>
        </p:blipFill>
        <p:spPr>
          <a:xfrm>
            <a:off x="6745320" y="744480"/>
            <a:ext cx="2386080" cy="201636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876240" y="5518080"/>
            <a:ext cx="85345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dd an adjective from part 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147400"/>
            <a:ext cx="7315200" cy="18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Il y a un tapis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525a28"/>
                </a:solidFill>
                <a:latin typeface="Times New Roman"/>
              </a:rPr>
              <a:t>(petit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304920" y="405288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il y a un petit tapi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990720" y="5294160"/>
            <a:ext cx="853416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dd an adjective from part 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6477120" y="299880"/>
            <a:ext cx="2286000" cy="17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4 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147400"/>
            <a:ext cx="731520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C’est une armoir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(beau) 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709560" y="3962520"/>
            <a:ext cx="8534520" cy="17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c’est une belle armoir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876240" y="5518080"/>
            <a:ext cx="85345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dd an adjective from part 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6615000" y="152280"/>
            <a:ext cx="214812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 5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147400"/>
            <a:ext cx="7315200" cy="17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J’aime mes étagères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(joli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04920" y="4052880"/>
            <a:ext cx="8534160" cy="18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’aime mes jolies étagères 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6877080" y="179280"/>
            <a:ext cx="1968480" cy="1968480"/>
          </a:xfrm>
          <a:prstGeom prst="rect">
            <a:avLst/>
          </a:prstGeom>
          <a:ln w="0">
            <a:noFill/>
          </a:ln>
        </p:spPr>
      </p:pic>
      <p:sp>
        <p:nvSpPr>
          <p:cNvPr id="150" name="TextBox 6"/>
          <p:cNvSpPr/>
          <p:nvPr/>
        </p:nvSpPr>
        <p:spPr>
          <a:xfrm>
            <a:off x="3378960" y="262080"/>
            <a:ext cx="40932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876240" y="5518080"/>
            <a:ext cx="85345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dd an adjective from part 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 6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 lit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267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(grand) 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267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304920" y="4114800"/>
            <a:ext cx="84582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’ai un grand li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" descr=""/>
          <p:cNvPicPr/>
          <p:nvPr/>
        </p:nvPicPr>
        <p:blipFill>
          <a:blip r:embed="rId1"/>
          <a:stretch/>
        </p:blipFill>
        <p:spPr>
          <a:xfrm>
            <a:off x="5791320" y="228600"/>
            <a:ext cx="2971800" cy="16700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876240" y="5518080"/>
            <a:ext cx="85345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dd an adjective from part 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Avec un partenaire Writing- Speaking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371600" y="1294920"/>
            <a:ext cx="7391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Vous allez voir 3 photos de 3 chambres différentes. 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hoisissez une chambre 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Décrivez les différents meubles en utilisant le maximum d’adjectifs que vous pouvez 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Utilisez aussi des prépositions. 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Vous allez lire votre description à un autre groupe qui doit deviner de quelle chambre vous parlez! 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60" name="Content Placeholder 3" descr=""/>
          <p:cNvPicPr/>
          <p:nvPr/>
        </p:nvPicPr>
        <p:blipFill>
          <a:blip r:embed="rId1"/>
          <a:stretch/>
        </p:blipFill>
        <p:spPr>
          <a:xfrm>
            <a:off x="1523880" y="61920"/>
            <a:ext cx="3218040" cy="2967120"/>
          </a:xfrm>
          <a:prstGeom prst="rect">
            <a:avLst/>
          </a:prstGeom>
          <a:ln w="0">
            <a:noFill/>
          </a:ln>
        </p:spPr>
      </p:pic>
      <p:sp>
        <p:nvSpPr>
          <p:cNvPr id="161" name="TextBox 8"/>
          <p:cNvSpPr/>
          <p:nvPr/>
        </p:nvSpPr>
        <p:spPr>
          <a:xfrm>
            <a:off x="3378960" y="262080"/>
            <a:ext cx="40932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Box 9"/>
          <p:cNvSpPr/>
          <p:nvPr/>
        </p:nvSpPr>
        <p:spPr>
          <a:xfrm>
            <a:off x="8596440" y="210960"/>
            <a:ext cx="3330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Box 10"/>
          <p:cNvSpPr/>
          <p:nvPr/>
        </p:nvSpPr>
        <p:spPr>
          <a:xfrm>
            <a:off x="6802560" y="3962520"/>
            <a:ext cx="40932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11" descr=""/>
          <p:cNvPicPr/>
          <p:nvPr/>
        </p:nvPicPr>
        <p:blipFill>
          <a:blip r:embed="rId2"/>
          <a:stretch/>
        </p:blipFill>
        <p:spPr>
          <a:xfrm>
            <a:off x="3598920" y="3657600"/>
            <a:ext cx="3200400" cy="2540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"/>
          <p:cNvPicPr/>
          <p:nvPr/>
        </p:nvPicPr>
        <p:blipFill>
          <a:blip r:embed="rId3"/>
          <a:stretch/>
        </p:blipFill>
        <p:spPr>
          <a:xfrm>
            <a:off x="4741920" y="81000"/>
            <a:ext cx="356868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Tips to describe a house 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01" name="Content Placeholder 4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305920" cy="4402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"/>
          <p:cNvSpPr/>
          <p:nvPr/>
        </p:nvSpPr>
        <p:spPr>
          <a:xfrm>
            <a:off x="4233600" y="-359640"/>
            <a:ext cx="676800" cy="7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92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Arial"/>
              </a:rPr>
              <a:t>Devine qui</a:t>
            </a:r>
            <a:r>
              <a:rPr b="0" lang="en-US" sz="900" spc="-1" strike="noStrike">
                <a:solidFill>
                  <a:srgbClr val="333333"/>
                </a:solidFill>
                <a:latin typeface="Times New Roman"/>
              </a:rPr>
              <a:t> </a:t>
            </a:r>
            <a:r>
              <a:rPr b="0" lang="en-US" sz="9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http://www.wikispaces.com/site/embedthumbnail/file/FR31%20U-3%20Devine%20qui%20%282%29.doc?h=52&amp;w=320"/>
          <p:cNvPicPr/>
          <p:nvPr/>
        </p:nvPicPr>
        <p:blipFill>
          <a:blip r:embed="rId2"/>
          <a:stretch/>
        </p:blipFill>
        <p:spPr>
          <a:xfrm>
            <a:off x="0" y="0"/>
            <a:ext cx="304812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Adjectives going </a:t>
            </a:r>
            <a:r>
              <a:rPr b="1" lang="en-US" sz="4400" spc="-1" strike="noStrike">
                <a:solidFill>
                  <a:srgbClr val="e3c16b"/>
                </a:solidFill>
                <a:latin typeface="Times New Roman"/>
              </a:rPr>
              <a:t>before</a:t>
            </a: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 the noun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5" name="Rectangle 1"/>
          <p:cNvSpPr/>
          <p:nvPr/>
        </p:nvSpPr>
        <p:spPr>
          <a:xfrm>
            <a:off x="4233600" y="-359640"/>
            <a:ext cx="676800" cy="7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92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Arial"/>
              </a:rPr>
              <a:t>Devine qui</a:t>
            </a:r>
            <a:r>
              <a:rPr b="0" lang="en-US" sz="900" spc="-1" strike="noStrike">
                <a:solidFill>
                  <a:srgbClr val="333333"/>
                </a:solidFill>
                <a:latin typeface="Times New Roman"/>
              </a:rPr>
              <a:t> </a:t>
            </a:r>
            <a:r>
              <a:rPr b="0" lang="en-US" sz="9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" descr="http://www.wikispaces.com/site/embedthumbnail/file/FR31%20U-3%20Devine%20qui%20%282%29.doc?h=52&amp;w=320"/>
          <p:cNvPicPr/>
          <p:nvPr/>
        </p:nvPicPr>
        <p:blipFill>
          <a:blip r:embed="rId1"/>
          <a:stretch/>
        </p:blipFill>
        <p:spPr>
          <a:xfrm>
            <a:off x="0" y="0"/>
            <a:ext cx="3048120" cy="495360"/>
          </a:xfrm>
          <a:prstGeom prst="rect">
            <a:avLst/>
          </a:prstGeom>
          <a:ln w="0">
            <a:noFill/>
          </a:ln>
        </p:spPr>
      </p:pic>
      <p:pic>
        <p:nvPicPr>
          <p:cNvPr id="107" name="Content Placeholder 2" descr=""/>
          <p:cNvPicPr/>
          <p:nvPr/>
        </p:nvPicPr>
        <p:blipFill>
          <a:blip r:embed="rId2"/>
          <a:stretch/>
        </p:blipFill>
        <p:spPr>
          <a:xfrm>
            <a:off x="1523880" y="2057400"/>
            <a:ext cx="6959880" cy="22096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5"/>
          <p:cNvSpPr/>
          <p:nvPr/>
        </p:nvSpPr>
        <p:spPr>
          <a:xfrm>
            <a:off x="2743200" y="49528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li- jol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Adjectifs going after </a:t>
            </a:r>
            <a:r>
              <a:rPr b="1" lang="en-US" sz="4400" spc="-1" strike="noStrike">
                <a:solidFill>
                  <a:srgbClr val="e3c16b"/>
                </a:solidFill>
                <a:latin typeface="Times New Roman"/>
              </a:rPr>
              <a:t>the</a:t>
            </a: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 noun 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10" name="Rectangle 1"/>
          <p:cNvSpPr/>
          <p:nvPr/>
        </p:nvSpPr>
        <p:spPr>
          <a:xfrm>
            <a:off x="4233600" y="-359640"/>
            <a:ext cx="676800" cy="7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92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Arial"/>
              </a:rPr>
              <a:t>Devine qui</a:t>
            </a:r>
            <a:r>
              <a:rPr b="0" lang="en-US" sz="900" spc="-1" strike="noStrike">
                <a:solidFill>
                  <a:srgbClr val="333333"/>
                </a:solidFill>
                <a:latin typeface="Times New Roman"/>
              </a:rPr>
              <a:t> </a:t>
            </a:r>
            <a:r>
              <a:rPr b="0" lang="en-US" sz="9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2" descr="http://www.wikispaces.com/site/embedthumbnail/file/FR31%20U-3%20Devine%20qui%20%282%29.doc?h=52&amp;w=320"/>
          <p:cNvPicPr/>
          <p:nvPr/>
        </p:nvPicPr>
        <p:blipFill>
          <a:blip r:embed="rId1"/>
          <a:stretch/>
        </p:blipFill>
        <p:spPr>
          <a:xfrm>
            <a:off x="0" y="0"/>
            <a:ext cx="3048120" cy="495360"/>
          </a:xfrm>
          <a:prstGeom prst="rect">
            <a:avLst/>
          </a:prstGeom>
          <a:ln w="0">
            <a:noFill/>
          </a:ln>
        </p:spPr>
      </p:pic>
      <p:pic>
        <p:nvPicPr>
          <p:cNvPr id="112" name="Content Placeholder 2" descr=""/>
          <p:cNvPicPr/>
          <p:nvPr/>
        </p:nvPicPr>
        <p:blipFill>
          <a:blip r:embed="rId2"/>
          <a:stretch/>
        </p:blipFill>
        <p:spPr>
          <a:xfrm>
            <a:off x="1371600" y="2514600"/>
            <a:ext cx="73152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Les adjectifs sont utilisés (used) pour décrire quelqu’un ou quelque chose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Ex. grand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  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eti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     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mignon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     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intelligen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371600" y="1461960"/>
            <a:ext cx="77724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Mais pour tous les adjectifs, il faut les accorder en genre et nombre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Genre: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Times New Roman"/>
              </a:rPr>
              <a:t>masculin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cc"/>
                </a:solidFill>
                <a:latin typeface="Times New Roman"/>
              </a:rPr>
              <a:t>féminin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Nombre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525a28"/>
                </a:solidFill>
                <a:latin typeface="Times New Roman"/>
              </a:rPr>
              <a:t>singulier (x)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525a28"/>
                </a:solidFill>
                <a:latin typeface="Times New Roman"/>
              </a:rPr>
              <a:t>pluriel (xx)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371600" y="2147760"/>
            <a:ext cx="77724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peti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pet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pet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pet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pet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Pratiqu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Prenez un tableau 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omplétez les phrases suivantes en rajoutant l’adjectif 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Attention: </a:t>
            </a:r>
            <a:r>
              <a:rPr b="1" lang="en-US" sz="3200" spc="-1" strike="noStrike">
                <a:solidFill>
                  <a:srgbClr val="525a28"/>
                </a:solidFill>
                <a:latin typeface="Times New Roman"/>
              </a:rPr>
              <a:t>Est-ce que l’adjectif va devant le nom? Ou après le nom? 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25a28"/>
                </a:solidFill>
                <a:latin typeface="Times New Roman"/>
              </a:rPr>
              <a:t>Accord (féminin- pluriel) 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81200" y="144792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J’ai un bureau 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525a28"/>
                </a:solidFill>
                <a:latin typeface="Times New Roman"/>
              </a:rPr>
              <a:t>(vieux) 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66760" y="4084560"/>
            <a:ext cx="853452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’ai un vieux bureau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3" descr="C:\Documents and Settings\Michael\Local Settings\Temporary Internet Files\Content.IE5\M6N0CPZS\MC900353259[1].wmf"/>
          <p:cNvPicPr/>
          <p:nvPr/>
        </p:nvPicPr>
        <p:blipFill>
          <a:blip r:embed="rId1"/>
          <a:stretch/>
        </p:blipFill>
        <p:spPr>
          <a:xfrm>
            <a:off x="6762600" y="1749600"/>
            <a:ext cx="2057400" cy="1881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4"/>
          <p:cNvSpPr/>
          <p:nvPr/>
        </p:nvSpPr>
        <p:spPr>
          <a:xfrm>
            <a:off x="704880" y="5137200"/>
            <a:ext cx="853452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Add an adjective of col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GREBERT,VIVIANE</cp:lastModifiedBy>
  <dcterms:modified xsi:type="dcterms:W3CDTF">2017-02-20T22:21:05Z</dcterms:modified>
  <cp:revision>103</cp:revision>
  <dc:subject/>
  <dc:title>Allez, viens! – Level 2</dc:title>
</cp:coreProperties>
</file>